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66AB-F8F1-4EC4-89AE-D6B8094A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E580-0F58-418F-9A40-B6C143A8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AE47-DC74-42AD-9B1F-7F083AA5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33D1-E1FC-4289-A9F6-51EB511DE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7A2C-BA36-46CA-A6A6-1B2B22618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1629-0A1A-4F03-A3BA-AA0CD364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0B32-6924-4741-9B1F-A6A1AFF2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3F18-5B18-4275-A005-C0956FF8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0E3B-1230-49E7-BAF7-0D91F71E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6450-ED8B-4D62-9DA8-56BBBD13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761A-5CA9-413D-956A-BA06427C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AAE2-3572-45B2-9DEF-9B622C76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C944-8929-41F3-9374-E1A1DF5C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F86B-2493-49CD-B553-784F2D55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793D-84EA-4DC0-AB3C-53439EEA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CBE8-359E-43A3-A14E-DCA7742DD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AF63-E0E9-4D04-9E9D-F7051267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3041-2A97-4F5C-A175-A304C70E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D7C5-93F4-4EF0-AB19-2800A6A7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D0A6-BE60-49DD-BD53-6593CB13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147D-3B3C-4D71-BFF2-92246A04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43D5-3DA7-4651-A8B9-D226D7A9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759B-9665-4610-8068-35F70ED2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156E-0AF7-4D4E-91B4-8DDFCE39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3D72-224B-4C83-B267-F250988B95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44C8-FFCC-4D14-8003-BD7942D03F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oal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31237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ya Cram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4D8D-9E7F-4612-806C-5B1CDA4ACAAE}" type="datetime2"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dnesday, July 29, 2026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udience will know the food source, adaption and environment of a koal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 Your Ide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a great story tel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ree act structu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very familiar for fi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I: enviro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II: fo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III: ada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siness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 a zo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y movie will be special and different because I’m going 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ortant Tip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alk slowly and clearl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e enthusiasti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actice, Practice and Practi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lax and have fun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20:49:27Z</dcterms:created>
  <dc:creator/>
  <dc:description/>
  <dc:language>en-US</dc:language>
  <cp:lastModifiedBy>City School</cp:lastModifiedBy>
  <dcterms:modified xsi:type="dcterms:W3CDTF">2013-02-19T21:28:21Z</dcterms:modified>
  <cp:revision>37</cp:revision>
  <dc:subject/>
  <dc:title>The Pitch-Then-Plan Business Planning Template</dc:title>
</cp:coreProperties>
</file>